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6.jpeg" ContentType="image/jpeg"/>
  <Override PartName="/ppt/media/image5.jpeg" ContentType="image/jpeg"/>
  <Override PartName="/ppt/media/TYPE.WAV" ContentType="audio/x-wav"/>
  <Override PartName="/ppt/media/image8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872E-DBDD-4C02-91B1-1F75531817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FC17-6A5E-4177-B135-BD5EC4E574E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058-CC5D-46DC-BDA0-152A6F13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81A-0189-4327-8C3A-6C021549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77F7-984C-46F4-8C56-178CD65C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F6F-8D90-4097-A541-CFA4A0D3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6CBE-BD63-42BA-88C1-7C7CC755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1A48-C5AC-4470-9C42-72E59E51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1484-7C00-4B7D-B19B-8E1AD01B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4783-9D54-407A-BF41-A620D605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1F5C-350E-4FB6-A35B-AD6F2940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EA00-FF22-4DFB-BE49-309B7510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BDFF-2A14-4A6D-82A6-D3D57FF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7723-EDD2-4217-BBD5-FE5E8E3C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BA20-487C-4E1B-BE3F-D535C12E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A6CC-C072-4BD7-91DF-BF337942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0A10-73DA-4F63-8C89-09B1C4B7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01A7-D91C-4E06-86C6-996C72CE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3EF1-DB98-48BB-8558-03C0AAB0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041E8-E67A-47FF-81C4-85C294A07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B0A72-7D27-4E7C-9DBC-9F6BDC85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3FEF-F08B-4313-B9F8-7A3C7922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58216-13A5-4389-8376-B8FF7DC6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3B5B-6DAD-4013-9EE2-FE62CD30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7F8-B587-40FC-86A0-2CD9445F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A3B8-FEFE-4508-BB02-9C560901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99630-6C0D-4C52-9829-9CB76862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68FD3-C34C-46A2-B0BE-7E8B0E9A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D4FB7-C2CB-4680-AFC9-D450B083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718C2-8B5B-4FC7-94AF-7060FA15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B54F-0096-4D0A-99AE-15D3FBCE4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FA2E-4849-40B9-B407-A7CDCC9E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9A0DE-558C-46C3-9C2A-C9A82B8B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957CB-1540-410B-8519-8510723C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9EE8A-F5C7-4D01-9252-C71D54AF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BAC5-6FDA-417C-BA1A-A7DAF817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53DD4-21B4-4518-891C-2D938A31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3BB71-C3E6-4D44-BEA6-6A711E83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C48DC-9F5D-4055-AF6E-F65E9FFE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B7E9-9963-480E-8DBB-FF181A25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CEA5-271F-4B4C-9453-3F8AF949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E7A1F-C560-479B-BC5F-C1C86CA2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1CEF7-3FC5-49FB-9358-36C7F7A0C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11C79-826A-4CB1-9865-279233DF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E1C3B-8A1D-4A48-AC41-2FFEAF44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EE031-F1DD-4492-A1BA-EF87D5C7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464-1C81-47C0-9D8A-8AACA8ED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1359E-774E-4EB5-B423-75025A39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EAD58-7EC5-4405-96C0-C85BAB2A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28B45-E4D9-41F2-A9BC-5BA5D571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D4951-7501-46DA-8A4F-56F0D12F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31BA9-C733-444A-A458-1BE9FAA4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E0C5C-4E1E-4C3A-8173-7810C5D4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D361A-A9AD-4340-AF81-5D6EE0B5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E9C68-C723-4FF2-BD98-CBCCA02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4923-DA6B-4FFB-A06D-B7B86175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B0934-21FD-446C-BAAE-4CBD9EC55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B60-CB92-4234-96F3-6ED79BDC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7A9C7-17B3-46F0-8A63-5ECD91F6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30EF2-6645-4D50-BF2A-F0FB0F85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02662-1EEC-49EB-9813-23C730BC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18BF8-4B38-4321-95F0-D823A57C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6A8E1-17D6-4E8F-BCB1-86EC3EAC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EEB31-CAC0-47AF-BF4B-30C4595F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14B6A-7AFC-4F13-8E4E-134548C3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0212B-A116-4887-8A60-0E036470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E9F5E-5453-4439-9C82-08E9E487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4D07C-77CC-4087-B751-63AF503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A5A-942C-4ED8-BDF2-AB52D9D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7DAF6-917E-48D9-AAB8-A4D955F2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BC60F-9559-49DB-8596-29FF8228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C6B01-4DC5-473C-A2AF-1B53E4B8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B5B-7E92-4ACB-BB18-BFB72F6A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5E4F-CE37-4417-BE2E-3B957F19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4E32-972F-41F4-830C-2D527D12DD7E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25B7-D7D0-4F84-B7CC-920F74C13317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2c61"/>
            </a:gs>
            <a:gs pos="100000">
              <a:srgbClr val="627bb1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7E76-5F95-475E-8707-9419A48E810E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8202-3684-427B-908D-60D74DCD780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9C02-8F1D-4ECE-9071-EBEA14ECDE80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4621-E3C2-4FB7-AD98-CC2D3190C161}" type="slidenum">
              <a:rPr b="0" lang="ru-RU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image" Target="../media/image23.jpeg"/><Relationship Id="rId14" Type="http://schemas.openxmlformats.org/officeDocument/2006/relationships/image" Target="../media/image24.jpeg"/><Relationship Id="rId15" Type="http://schemas.openxmlformats.org/officeDocument/2006/relationships/image" Target="../media/image25.jpeg"/><Relationship Id="rId16" Type="http://schemas.openxmlformats.org/officeDocument/2006/relationships/image" Target="../media/image26.jpeg"/><Relationship Id="rId17" Type="http://schemas.openxmlformats.org/officeDocument/2006/relationships/image" Target="../media/image27.jpeg"/><Relationship Id="rId18" Type="http://schemas.openxmlformats.org/officeDocument/2006/relationships/image" Target="../media/image28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ptcloud.ru/obzh/chs_prirodnogo_tehnogennogo_haraktera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17520" y="360360"/>
            <a:ext cx="858204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6"/>
          <p:cNvSpPr/>
          <p:nvPr/>
        </p:nvSpPr>
        <p:spPr>
          <a:xfrm>
            <a:off x="324000" y="476280"/>
            <a:ext cx="849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скорости развития ЧС делят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зрывные, внезапные, скоротечные, плавны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324000" y="4581360"/>
            <a:ext cx="8424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6.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масштабу распространения ЧС бываю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локальные,  местные, территориальные, региональные,  федеральные, трансграничны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324000" y="1557360"/>
            <a:ext cx="835164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4. По возможности предотвращ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еизбежные (природные),  предотвращаемые (техногенные, социальные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Прямоугольник 9"/>
          <p:cNvSpPr/>
          <p:nvPr/>
        </p:nvSpPr>
        <p:spPr>
          <a:xfrm>
            <a:off x="395280" y="2924280"/>
            <a:ext cx="8424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5. По ведомственной принадлежности: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(в промышленности,  строительстве, на транспорте, в жилищно-коммунальной сфере, сельском, лесном хозяйстве и т.д.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4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75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995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75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132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55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0" y="642960"/>
          <a:ext cx="9144000" cy="6012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звание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острадав-ш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рушены условия  жиз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-ный ущер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распрас-  транения  Ч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к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более 1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 объе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т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 до 5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00 до 3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 тыс. до 5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города, района, н.пунк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ритори-аль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500 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300 до 500 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 тыс. до 500 тыс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субъекта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 до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до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00 тыс. до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дераль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00 челове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5 млн. МРО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2-х субъектов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нсгранич-на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-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ходит за пределы РФ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Заголовок 2" descr=""/>
          <p:cNvPicPr/>
          <p:nvPr/>
        </p:nvPicPr>
        <p:blipFill>
          <a:blip r:embed="rId1"/>
          <a:stretch/>
        </p:blipFill>
        <p:spPr>
          <a:xfrm>
            <a:off x="676440" y="225360"/>
            <a:ext cx="7785000" cy="1049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24000" y="1197000"/>
            <a:ext cx="8496000" cy="12240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техногенного характ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395280" y="2924280"/>
          <a:ext cx="3960720" cy="34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924280"/>
                    <a:ext cx="3960720" cy="3457440"/>
                  </a:xfrm>
                  <a:prstGeom prst="rect">
                    <a:avLst/>
                  </a:prstGeom>
                  <a:ln w="2844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92" name="Picture 5" descr="207894"/>
          <p:cNvPicPr/>
          <p:nvPr/>
        </p:nvPicPr>
        <p:blipFill>
          <a:blip r:embed="rId4"/>
          <a:stretch/>
        </p:blipFill>
        <p:spPr>
          <a:xfrm>
            <a:off x="4788000" y="2924280"/>
            <a:ext cx="4032000" cy="3457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1"/>
          <p:cNvSpPr/>
          <p:nvPr/>
        </p:nvSpPr>
        <p:spPr>
          <a:xfrm>
            <a:off x="0" y="0"/>
            <a:ext cx="9128160" cy="620640"/>
          </a:xfrm>
          <a:prstGeom prst="rect">
            <a:avLst/>
          </a:prstGeom>
          <a:solidFill>
            <a:srgbClr val="c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резвычайные ситуации техногенного характе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Прямоугольник 2"/>
          <p:cNvSpPr/>
          <p:nvPr/>
        </p:nvSpPr>
        <p:spPr>
          <a:xfrm>
            <a:off x="0" y="770040"/>
            <a:ext cx="2195640" cy="57600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анспортные авари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Прямоугольник 3"/>
          <p:cNvSpPr/>
          <p:nvPr/>
        </p:nvSpPr>
        <p:spPr>
          <a:xfrm>
            <a:off x="0" y="1484280"/>
            <a:ext cx="2195640" cy="1152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биолог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Прямоугольник 4"/>
          <p:cNvSpPr/>
          <p:nvPr/>
        </p:nvSpPr>
        <p:spPr>
          <a:xfrm>
            <a:off x="0" y="2744640"/>
            <a:ext cx="2195640" cy="9367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на очистных сооружения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Прямоугольник 5"/>
          <p:cNvSpPr/>
          <p:nvPr/>
        </p:nvSpPr>
        <p:spPr>
          <a:xfrm>
            <a:off x="0" y="3789360"/>
            <a:ext cx="2195640" cy="51444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ожары и взрывы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Прямоугольник 6"/>
          <p:cNvSpPr/>
          <p:nvPr/>
        </p:nvSpPr>
        <p:spPr>
          <a:xfrm>
            <a:off x="0" y="4383000"/>
            <a:ext cx="2195640" cy="113832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Внезапное обрушение зданий и сооружений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Прямоугольник 8"/>
          <p:cNvSpPr/>
          <p:nvPr/>
        </p:nvSpPr>
        <p:spPr>
          <a:xfrm>
            <a:off x="6931080" y="1052640"/>
            <a:ext cx="21970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химически опас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6915240" y="242100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с выбросом радиоактивных вещест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Прямоугольник 10"/>
          <p:cNvSpPr/>
          <p:nvPr/>
        </p:nvSpPr>
        <p:spPr>
          <a:xfrm>
            <a:off x="6915240" y="3789360"/>
            <a:ext cx="2195280" cy="1152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энергетических систем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Прямоугольник 11"/>
          <p:cNvSpPr/>
          <p:nvPr/>
        </p:nvSpPr>
        <p:spPr>
          <a:xfrm>
            <a:off x="6915240" y="5157720"/>
            <a:ext cx="2195280" cy="120168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Аварии  на коммунальных системах жизнеобеспечения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Прямоугольник 7"/>
          <p:cNvSpPr/>
          <p:nvPr/>
        </p:nvSpPr>
        <p:spPr>
          <a:xfrm>
            <a:off x="0" y="5732640"/>
            <a:ext cx="2195640" cy="936360"/>
          </a:xfrm>
          <a:prstGeom prst="rect">
            <a:avLst/>
          </a:prstGeom>
          <a:solidFill>
            <a:srgbClr val="00b050"/>
          </a:solidFill>
          <a:ln w="19080">
            <a:solidFill>
              <a:srgbClr val="173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Arial"/>
              </a:rPr>
              <a:t>Гидродинамические аварии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Прямая соединительная линия 14"/>
          <p:cNvSpPr/>
          <p:nvPr/>
        </p:nvSpPr>
        <p:spPr>
          <a:xfrm>
            <a:off x="2484360" y="620640"/>
            <a:ext cx="22320" cy="56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6516720" y="620640"/>
            <a:ext cx="0" cy="511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6" name="Прямая со стрелкой 18"/>
          <p:cNvCxnSpPr>
            <a:endCxn id="294" idx="3"/>
          </p:cNvCxnSpPr>
          <p:nvPr/>
        </p:nvCxnSpPr>
        <p:spPr>
          <a:xfrm flipH="1">
            <a:off x="2195280" y="1056960"/>
            <a:ext cx="289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2135160" y="19810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"/>
          <p:cNvPicPr/>
          <p:nvPr/>
        </p:nvPicPr>
        <p:blipFill>
          <a:blip r:embed="rId2"/>
          <a:stretch/>
        </p:blipFill>
        <p:spPr>
          <a:xfrm>
            <a:off x="2112840" y="313380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"/>
          <p:cNvPicPr/>
          <p:nvPr/>
        </p:nvPicPr>
        <p:blipFill>
          <a:blip r:embed="rId3"/>
          <a:stretch/>
        </p:blipFill>
        <p:spPr>
          <a:xfrm>
            <a:off x="2112840" y="397656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4"/>
          <a:stretch/>
        </p:blipFill>
        <p:spPr>
          <a:xfrm>
            <a:off x="2133720" y="4873680"/>
            <a:ext cx="371520" cy="1587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"/>
          <p:cNvPicPr/>
          <p:nvPr/>
        </p:nvPicPr>
        <p:blipFill>
          <a:blip r:embed="rId5"/>
          <a:stretch/>
        </p:blipFill>
        <p:spPr>
          <a:xfrm>
            <a:off x="2135160" y="6200640"/>
            <a:ext cx="371520" cy="158760"/>
          </a:xfrm>
          <a:prstGeom prst="rect">
            <a:avLst/>
          </a:prstGeom>
          <a:ln w="0">
            <a:noFill/>
          </a:ln>
        </p:spPr>
      </p:pic>
      <p:cxnSp>
        <p:nvCxnSpPr>
          <p:cNvPr id="312" name="Прямая со стрелкой 21"/>
          <p:cNvCxnSpPr/>
          <p:nvPr/>
        </p:nvCxnSpPr>
        <p:spPr>
          <a:xfrm>
            <a:off x="6516360" y="1639440"/>
            <a:ext cx="415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pic>
        <p:nvPicPr>
          <p:cNvPr id="313" name="Picture 8" descr=""/>
          <p:cNvPicPr/>
          <p:nvPr/>
        </p:nvPicPr>
        <p:blipFill>
          <a:blip r:embed="rId6"/>
          <a:stretch/>
        </p:blipFill>
        <p:spPr>
          <a:xfrm>
            <a:off x="6531120" y="565308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9" descr=""/>
          <p:cNvPicPr/>
          <p:nvPr/>
        </p:nvPicPr>
        <p:blipFill>
          <a:blip r:embed="rId7"/>
          <a:stretch/>
        </p:blipFill>
        <p:spPr>
          <a:xfrm>
            <a:off x="6531120" y="43038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8"/>
          <a:stretch/>
        </p:blipFill>
        <p:spPr>
          <a:xfrm>
            <a:off x="6531120" y="2959200"/>
            <a:ext cx="493560" cy="1587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1" descr=""/>
          <p:cNvPicPr/>
          <p:nvPr/>
        </p:nvPicPr>
        <p:blipFill>
          <a:blip r:embed="rId9"/>
          <a:stretch/>
        </p:blipFill>
        <p:spPr>
          <a:xfrm>
            <a:off x="2627280" y="770040"/>
            <a:ext cx="1728720" cy="10936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2" descr=""/>
          <p:cNvPicPr/>
          <p:nvPr/>
        </p:nvPicPr>
        <p:blipFill>
          <a:blip r:embed="rId10"/>
          <a:stretch/>
        </p:blipFill>
        <p:spPr>
          <a:xfrm>
            <a:off x="2600280" y="1981080"/>
            <a:ext cx="1733760" cy="1171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3" descr=""/>
          <p:cNvPicPr/>
          <p:nvPr/>
        </p:nvPicPr>
        <p:blipFill>
          <a:blip r:embed="rId11"/>
          <a:stretch/>
        </p:blipFill>
        <p:spPr>
          <a:xfrm>
            <a:off x="2627280" y="3213000"/>
            <a:ext cx="1728720" cy="115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4" descr=""/>
          <p:cNvPicPr/>
          <p:nvPr/>
        </p:nvPicPr>
        <p:blipFill>
          <a:blip r:embed="rId12"/>
          <a:stretch/>
        </p:blipFill>
        <p:spPr>
          <a:xfrm>
            <a:off x="2627280" y="321300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5" descr=""/>
          <p:cNvPicPr/>
          <p:nvPr/>
        </p:nvPicPr>
        <p:blipFill>
          <a:blip r:embed="rId13"/>
          <a:stretch/>
        </p:blipFill>
        <p:spPr>
          <a:xfrm>
            <a:off x="2627280" y="4452840"/>
            <a:ext cx="1728720" cy="11574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6" descr=""/>
          <p:cNvPicPr/>
          <p:nvPr/>
        </p:nvPicPr>
        <p:blipFill>
          <a:blip r:embed="rId14"/>
          <a:stretch/>
        </p:blipFill>
        <p:spPr>
          <a:xfrm>
            <a:off x="2577960" y="5616720"/>
            <a:ext cx="1704960" cy="1136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7" descr=""/>
          <p:cNvPicPr/>
          <p:nvPr/>
        </p:nvPicPr>
        <p:blipFill>
          <a:blip r:embed="rId15"/>
          <a:stretch/>
        </p:blipFill>
        <p:spPr>
          <a:xfrm>
            <a:off x="4830840" y="770040"/>
            <a:ext cx="1611360" cy="12110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8" descr=""/>
          <p:cNvPicPr/>
          <p:nvPr/>
        </p:nvPicPr>
        <p:blipFill>
          <a:blip r:embed="rId16"/>
          <a:stretch/>
        </p:blipFill>
        <p:spPr>
          <a:xfrm>
            <a:off x="4830840" y="2205000"/>
            <a:ext cx="1611360" cy="1074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9" descr=""/>
          <p:cNvPicPr/>
          <p:nvPr/>
        </p:nvPicPr>
        <p:blipFill>
          <a:blip r:embed="rId17"/>
          <a:stretch/>
        </p:blipFill>
        <p:spPr>
          <a:xfrm>
            <a:off x="4827600" y="3573360"/>
            <a:ext cx="1612800" cy="12891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0" descr=""/>
          <p:cNvPicPr/>
          <p:nvPr/>
        </p:nvPicPr>
        <p:blipFill>
          <a:blip r:embed="rId18"/>
          <a:stretch/>
        </p:blipFill>
        <p:spPr>
          <a:xfrm>
            <a:off x="4851360" y="5248440"/>
            <a:ext cx="1590840" cy="119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617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ы развития ЧС</a:t>
            </a:r>
            <a:br>
              <a:rPr sz="28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Накопление отклонений от нормального состояния или процесса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явление фактора неустойчивости или «аварийная ситуация» (видны  предпосылки, есть реальная возможность предотвратить или  уменьшить ЧС)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Процесс чрезвычайного события (происходит воздействие на людей и окружающую среду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Выход аварии за пределы территории объекта и действие остаточных факторов поражения.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Ликвидация последствий аварии или  стихийного бедствия (поисково-спасательные, аварийно-восстановительные работы). </a:t>
            </a:r>
            <a:endParaRPr b="0" lang="en-US" sz="3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3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фикация ЧС природного характе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2143459841"/>
          <p:cNvPicPr/>
          <p:nvPr/>
        </p:nvPicPr>
        <p:blipFill>
          <a:blip r:embed="rId1"/>
          <a:stretch/>
        </p:blipFill>
        <p:spPr>
          <a:xfrm>
            <a:off x="4572000" y="2781360"/>
            <a:ext cx="4176720" cy="38163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330" name="Picture 4" descr="a3199732-1"/>
          <p:cNvPicPr/>
          <p:nvPr/>
        </p:nvPicPr>
        <p:blipFill>
          <a:blip r:embed="rId2"/>
          <a:stretch/>
        </p:blipFill>
        <p:spPr>
          <a:xfrm>
            <a:off x="324000" y="2781360"/>
            <a:ext cx="3852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85480" y="333000"/>
            <a:ext cx="86072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резвычайные ситуации  природного характ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офиз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землетрясения, извержение вулкан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Ге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ползни, сели, обвалы, осыпи, лави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етеорологически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агрометеорологические) опасные явления  (бури, смерчи, ураганы, град, сильный дождь, снег, мороз, метель, жара, туман, засух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рские 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цунами, шторм, тайфуны, напор льд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идрологические опасные явления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наводнения, низкий уровень воды, ветровые наг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родные пожары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лесные, степные, торфяные, подземны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опросы для закрепления.</a:t>
            </a:r>
            <a:br>
              <a:rPr sz="4600"/>
            </a:br>
            <a:r>
              <a:rPr b="1" i="1" lang="ru-RU" sz="4000" spc="-1" strike="noStrike">
                <a:solidFill>
                  <a:srgbClr val="ffffff"/>
                </a:solidFill>
                <a:latin typeface="Franklin Gothic Book"/>
              </a:rPr>
              <a:t>1. Найдите ошибки.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К ЧС  техногенного характера относятся: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а) авария на  трубопроводе;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б) разрушение озонового слоя;        в) теракт в самолете;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г) прорыв плотины на ГЭ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2. Распределите ЧС по порядку, в зависимости от скорости их разви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внезап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плав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скоротечные;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взрывные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3. Что не относится к классификации ЧС по масштабам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ерритори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локаль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административные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г) федераль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АЕМЫЕ ВОПРОСЫ</a:t>
            </a:r>
            <a:br>
              <a:rPr sz="4600"/>
            </a:br>
            <a:r>
              <a:rPr b="1" lang="ru-RU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Чрезвычайные ситуации. Общая классификация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Классификация ЧС техногенного характера.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Классификация ЧС природного характера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4. При какой ЧС поражающие факторы выходят за пределы двух субъектов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 трансгранич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б) региональной; 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в) федера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ff"/>
                </a:solidFill>
                <a:latin typeface="Franklin Gothic Book"/>
              </a:rPr>
              <a:t>5.  В какой фазе развития ЧС происходит процесс чрезвычайного события:</a:t>
            </a:r>
            <a:br>
              <a:rPr sz="4600"/>
            </a:b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а)1;     б) 2;    в) 3      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   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1. Конспект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2. Ответы на вопросы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3. Посмотреть видео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s://pptcloud.ru/obzh/chs_prirodnogo_tehnogennogo_haraktera</a:t>
            </a: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Franklin Gothic Book"/>
              </a:rPr>
              <a:t>Домашнее задание сдать до 21.10.2020</a:t>
            </a:r>
            <a:br>
              <a:rPr sz="5400"/>
            </a:br>
            <a:br>
              <a:rPr sz="3600"/>
            </a:b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ada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497800" cy="141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ff"/>
                </a:solidFill>
                <a:latin typeface="Franklin Gothic Book"/>
              </a:rPr>
              <a:t>      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ВОПРОС 1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</a:t>
            </a:r>
            <a:r>
              <a:rPr b="1" lang="ru-RU" sz="3200" spc="-1" strike="noStrike">
                <a:solidFill>
                  <a:srgbClr val="f9150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чрезвычайных ситуаций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50920" y="1557360"/>
            <a:ext cx="8496360" cy="5771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Чрезвычайная ситуация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(ЧС)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— это нарушение нормальных условий жизнедеятельности людей на определенной территории, вызванное аварией, катастрофой, стихийным или экологическим бедствием, в результате которых возникает угроза жизни и здоровью, наносится ущерб имуществу населения, народному хозяйству и окружающей природной сред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80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75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По причин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намеренные (война, диверсия) и непреднамеренные    (стихийные  бедствия).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4788000" y="2357280"/>
            <a:ext cx="4268520" cy="4000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ShowImage122"/>
          <p:cNvPicPr/>
          <p:nvPr/>
        </p:nvPicPr>
        <p:blipFill>
          <a:blip r:embed="rId2"/>
          <a:stretch/>
        </p:blipFill>
        <p:spPr>
          <a:xfrm>
            <a:off x="250920" y="220500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a07"/>
          <p:cNvPicPr/>
          <p:nvPr/>
        </p:nvPicPr>
        <p:blipFill>
          <a:blip r:embed="rId1"/>
          <a:stretch/>
        </p:blipFill>
        <p:spPr>
          <a:xfrm>
            <a:off x="250920" y="2421000"/>
            <a:ext cx="4105080" cy="41767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asi14"/>
          <p:cNvPicPr/>
          <p:nvPr/>
        </p:nvPicPr>
        <p:blipFill>
          <a:blip r:embed="rId2"/>
          <a:stretch/>
        </p:blipFill>
        <p:spPr>
          <a:xfrm>
            <a:off x="4572000" y="2421000"/>
            <a:ext cx="4321080" cy="417672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3"/>
          <p:cNvSpPr/>
          <p:nvPr/>
        </p:nvSpPr>
        <p:spPr>
          <a:xfrm>
            <a:off x="250920" y="189000"/>
            <a:ext cx="8569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. По природе возникновения ЧС дел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) природные - стихийные бедствия (землетрясения, наводнения, цунами,  сели, оползни,  лавины, снежные заносы и др.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) техногенные аварии и катастрофы (взрывы, пожары, выбросы ядовитых и радиоактивных веществ, обрушение зданий, аварии на системах жизнеобеспечения и др.)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321080" cy="4537080"/>
          </a:xfrm>
          <a:prstGeom prst="rect">
            <a:avLst/>
          </a:prstGeom>
          <a:ln w="0">
            <a:noFill/>
          </a:ln>
        </p:spPr>
      </p:pic>
      <p:pic>
        <p:nvPicPr>
          <p:cNvPr id="273" name="Содержимое 5" descr="-god-nazad-proizoshla-avarija-na-chernobylskoj-aes-foto_19003_s__6.jpg"/>
          <p:cNvPicPr/>
          <p:nvPr/>
        </p:nvPicPr>
        <p:blipFill>
          <a:blip r:embed="rId2"/>
          <a:stretch/>
        </p:blipFill>
        <p:spPr>
          <a:xfrm>
            <a:off x="4716360" y="2060640"/>
            <a:ext cx="4176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) антропогенные - являются следствием ошибочных действий людей;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5" name="Picture 4" descr="26BR6967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2060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) экологические - аномальные изменения состояния природной среды (качественное изменение биосферы, заражение почвы, воды, атмосферы, нарушение озонового слоя)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7" name="Picture 2" descr="miracle2-1-big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4321080"/>
          </a:xfrm>
          <a:prstGeom prst="rect">
            <a:avLst/>
          </a:prstGeom>
          <a:ln w="0">
            <a:noFill/>
          </a:ln>
        </p:spPr>
      </p:pic>
      <p:pic>
        <p:nvPicPr>
          <p:cNvPr id="278" name="i-main-pic" descr="Картинка 5 из 4023"/>
          <p:cNvPicPr/>
          <p:nvPr/>
        </p:nvPicPr>
        <p:blipFill>
          <a:blip r:embed="rId2"/>
          <a:stretch/>
        </p:blipFill>
        <p:spPr>
          <a:xfrm>
            <a:off x="4932360" y="2276640"/>
            <a:ext cx="39607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) социальные (мошенничество, бандитизм, разбой, террор)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Picture 3" descr="4"/>
          <p:cNvPicPr/>
          <p:nvPr/>
        </p:nvPicPr>
        <p:blipFill>
          <a:blip r:embed="rId1"/>
          <a:stretch/>
        </p:blipFill>
        <p:spPr>
          <a:xfrm>
            <a:off x="250920" y="1889280"/>
            <a:ext cx="5184720" cy="4968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4" descr=""/>
          <p:cNvPicPr/>
          <p:nvPr/>
        </p:nvPicPr>
        <p:blipFill>
          <a:blip r:embed="rId2"/>
          <a:stretch/>
        </p:blipFill>
        <p:spPr>
          <a:xfrm>
            <a:off x="5580000" y="3933720"/>
            <a:ext cx="3240000" cy="29242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"/>
          <p:cNvPicPr/>
          <p:nvPr/>
        </p:nvPicPr>
        <p:blipFill>
          <a:blip r:embed="rId3"/>
          <a:stretch/>
        </p:blipFill>
        <p:spPr>
          <a:xfrm>
            <a:off x="5724360" y="1557360"/>
            <a:ext cx="3168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5T12:12:07Z</dcterms:created>
  <dc:creator>user</dc:creator>
  <dc:description/>
  <dc:language>en-US</dc:language>
  <cp:lastModifiedBy>Зам</cp:lastModifiedBy>
  <dcterms:modified xsi:type="dcterms:W3CDTF">2020-10-16T14:18:29Z</dcterms:modified>
  <cp:revision>194</cp:revision>
  <dc:subject/>
  <dc:title>Чрезвычайные ситуациии</dc:title>
</cp:coreProperties>
</file>